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ACC-FFA7-4FF5-B0AB-43DD50C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6CD-EF70-4233-AAFE-84F1497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8B7-CA82-4DD2-B0BD-7B753DE4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D41-36F5-48F6-8ECF-986DA135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255-1579-4DD8-A4E0-4FF06AE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936-5F9C-4493-861E-499D5647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B74-CFBB-4032-8F41-FA3DA44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A98-24F0-4949-9BF3-9EE9F01C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0C2-08A8-4D92-BA92-691BD8CD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B30-38CF-4DD1-AE0E-4F82CDF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59D-234B-45A0-A1F7-669A230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E92-157D-4098-8C6A-1DA326C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5342-19ED-4984-B609-9567733F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285800">
            <a:off x="3347280" y="270828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hi so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164400">
            <a:off x="539280" y="907560"/>
            <a:ext cx="5400720" cy="30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Gloria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407000">
            <a:off x="1060200" y="1181160"/>
            <a:ext cx="3803400" cy="38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4724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o nata il 2 Marzo 19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9986600">
            <a:off x="395640" y="83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t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582480"/>
            <a:ext cx="3600720" cy="274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34830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4155840" cy="311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208908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472360" cy="2894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54738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19564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24360" y="692280"/>
            <a:ext cx="3240360" cy="22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886200">
            <a:off x="1115640" y="37159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 vissuto in compagnia dell’Et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25480" y="2413080"/>
            <a:ext cx="63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GGI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9700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ruisco il mio futu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5257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256360" cy="348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739600">
            <a:off x="625320" y="7632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Studi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20448600">
            <a:off x="395640" y="6919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lav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321300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2360" y="4365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 due splendidi bambi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350800">
            <a:off x="324000" y="4723920"/>
            <a:ext cx="149832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00720" y="4941720"/>
            <a:ext cx="2411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21:22:43Z</dcterms:created>
  <dc:creator>Gloria</dc:creator>
  <dc:description/>
  <dc:language>en-US</dc:language>
  <cp:lastModifiedBy>Gloria</cp:lastModifiedBy>
  <dcterms:modified xsi:type="dcterms:W3CDTF">2012-03-13T21:48:28Z</dcterms:modified>
  <cp:revision>4</cp:revision>
  <dc:subject/>
  <dc:title>Diapositiva 1</dc:title>
</cp:coreProperties>
</file>